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004-387D-497D-BF81-3E7E1E22E67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ECE-D207-4C9F-9855-B2F537C377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6561-60A6-4569-87C5-0E91AC1406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79D9-AE68-4E24-82DD-E809A87767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3F71-2AA6-4E25-8DE5-D187AD4952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D9F1-20A3-430F-9742-0006A990B2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D9DC-312D-4A15-91E6-5B79627DC4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6537-F21D-4313-9744-4125908F2A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306-1119-4017-A2E5-D63B505CE5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2C1A-7C6D-4D9F-AF5B-50F603842B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F5B-30FA-472D-ACD9-E4A57ED5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822-4D12-40BC-98FA-CF8439F4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D8F-FC1B-4639-85D4-DC6D1F55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971-3EA0-4398-B1E9-096E05D7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76C-1D4A-4133-9FC7-7FD962E6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2B1-FF42-4431-B80F-6BAC04B9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6E8-EFB2-4A17-B736-2F1DB9A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B65-A4FD-4F08-AF34-CD430D7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610-B303-4168-A91F-D2DEA1E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AB5-BDBE-48E1-8980-8287DDE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998-022D-45FE-8041-4E6A2A5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B83-F08A-492A-8F26-A4E2322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E387-C245-4179-9F70-84FF306FDA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16040" y="1317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vice Bullet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60280" y="533520"/>
          <a:ext cx="6445440" cy="4514760"/>
        </p:xfrm>
        <a:graphic>
          <a:graphicData uri="http://schemas.openxmlformats.org/drawingml/2006/table">
            <a:tbl>
              <a:tblPr/>
              <a:tblGrid>
                <a:gridCol w="1873440"/>
                <a:gridCol w="4572000"/>
              </a:tblGrid>
              <a:tr h="38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VC Model (Product cod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LD450-ZA , 32/37/42/47LD450N-ZA , 32/37/42/47LD455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LD458-ZA , 32/37/42/47LD465-ZA , 32/37/42/47LD465N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LD468-ZA , 32/37/42/47LD425-ZA , 42LD426-Z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LD420-ZA , 32/37/42/47LD420N-ZA , 32/37/42/47LD428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LD421-ZB , 19/22/26/32LD350-ZA , 19/22/26/32LD350N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/22/26/32LD351-ZB , 22/32LD358-ZA , 32LD359-Z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LD351N-ZB , 19/22/26/32LD355-ZA , 26/32LD356-Z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LD345-ZA , 32LD346-ZB , 26/32LD335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LD420C-ZA , 26/32LD325-ZA , 32LD336-Z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LD340-ZA , 32LD341-ZB , 19/22/26/32/37/42/47/55LE5300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/55LE5308-ZA , 32/37/42/47/55LE530N-ZA , 32/37/42/47/55LE5310-Z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/47/55LE5318-ZB , 32/42/46/60LD565-ZC , 32/42/46/60LD565N-Z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42/46/60LD566-ZA , 32/42/46/60LD568-ZC , 32/42/46/60LD569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42/46LD555-ZC , 32/42/46/60LD550-ZC , 32/42/46/60LD550N-Z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42/46/60LD551-ZA , 32/42/46/60LD558-ZC , 32/42/46/60LD559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37/42LE4500-ZA , 32/37/42LE4508-ZA , 32/37/42LE450N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/22/26/32LE3300-ZA , 19/22/26/32LE3308-ZA , 19/22/26/32LE330N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LD550-ZA , 22/26LE5500-ZA , 22/26LE550N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/26LE5510-ZB , 32/37LE5450-ZA , 22LE3320-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/22LE3400-ZA 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VB EU GP2 MSTAR series lock up issu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ble Serial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erial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204"/>
          <p:cNvSpPr/>
          <p:nvPr/>
        </p:nvSpPr>
        <p:spPr>
          <a:xfrm>
            <a:off x="371520" y="5562720"/>
            <a:ext cx="61722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굴림"/>
              </a:rPr>
              <a:t>Before finish  playing EMP movie  it is stopped abnormally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205"/>
          <p:cNvSpPr/>
          <p:nvPr/>
        </p:nvSpPr>
        <p:spPr>
          <a:xfrm>
            <a:off x="372240" y="53334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Symptom Detail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2" name="Group 238"/>
          <p:cNvGrpSpPr/>
          <p:nvPr/>
        </p:nvGrpSpPr>
        <p:grpSpPr>
          <a:xfrm>
            <a:off x="257040" y="5334120"/>
            <a:ext cx="6448320" cy="2819160"/>
            <a:chOff x="257040" y="5334120"/>
            <a:chExt cx="6448320" cy="2819160"/>
          </a:xfrm>
        </p:grpSpPr>
        <p:sp>
          <p:nvSpPr>
            <p:cNvPr id="53" name="Line 219"/>
            <p:cNvSpPr/>
            <p:nvPr/>
          </p:nvSpPr>
          <p:spPr>
            <a:xfrm>
              <a:off x="257040" y="5334120"/>
              <a:ext cx="6448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Line 221"/>
            <p:cNvSpPr/>
            <p:nvPr/>
          </p:nvSpPr>
          <p:spPr>
            <a:xfrm>
              <a:off x="257040" y="8153280"/>
              <a:ext cx="6448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Line 222"/>
            <p:cNvSpPr/>
            <p:nvPr/>
          </p:nvSpPr>
          <p:spPr>
            <a:xfrm>
              <a:off x="257040" y="5334120"/>
              <a:ext cx="0" cy="281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Line 223"/>
            <p:cNvSpPr/>
            <p:nvPr/>
          </p:nvSpPr>
          <p:spPr>
            <a:xfrm>
              <a:off x="6705360" y="5334120"/>
              <a:ext cx="0" cy="281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" name="Text Box 228"/>
          <p:cNvSpPr/>
          <p:nvPr/>
        </p:nvSpPr>
        <p:spPr>
          <a:xfrm>
            <a:off x="384480" y="623016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Solu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체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 Box 229"/>
          <p:cNvSpPr/>
          <p:nvPr/>
        </p:nvSpPr>
        <p:spPr>
          <a:xfrm>
            <a:off x="371520" y="6611760"/>
            <a:ext cx="61722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o solve problem, please usb update to V3.03.4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31400" y="1343160"/>
            <a:ext cx="304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1. Applied Models &amp; Not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2680" y="1828800"/>
            <a:ext cx="6669000" cy="44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◈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pplied Mode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LD450-ZA , 32/37/42/47LD450N-ZA , 32/37/42/47LD455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LD458-ZA , 32/37/42/47LD465-ZA , 32/37/42/47LD465N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LD468-ZA , 32/37/42/47LD425-ZA , 42LD426-Z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LD420-ZA , 32/37/42/47LD420N-ZA , 32/37/42/47LD428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42LD421-ZB , 19/22/26/32LD350-ZA , 19/22/26/32LD350N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19/22/26/32LD351-ZB , 22/32LD358-ZA , 32LD359-Z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LD351N-ZB , 19/22/26/32LD355-ZA , 26/32LD356-Z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LD345-ZA , 32LD346-ZB , 26/32LD335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LD420C-ZA , 26/32LD325-ZA , 32LD336-Z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LD340-ZA , 32LD341-ZB , 19/22/26/32/37/42/47/55LE5300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/55LE5308-ZA , 32/37/42/47/55LE530N-ZA , 32/37/42/47/55LE5310-Z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/47/55LE5318-ZB , 32/42/46/60LD565-ZC , 32/42/46/60LD565N-Z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42/46/60LD566-ZA , 32/42/46/60LD568-ZC , 32/42/46/60LD569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42/46LD555-ZC , 32/42/46/60LD550-ZC , 32/42/46/60LD550N-Z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42/46/60LD551-ZA , 32/42/46/60LD558-ZC , 32/42/46/60LD559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32/37/42LE4500-ZA , 32/37/42LE4508-ZA , 32/37/42LE450N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19/22/26/32LE3300-ZA , 19/22/26/32LE3308-ZA , 19/22/26/32LE330N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42LD550-ZA , 22/26LE5500-ZA , 22/26LE550N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22/26LE5510-ZB , 32/37LE5450-ZA , 22LE3320-Z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굴림"/>
                <a:ea typeface="굴림"/>
              </a:rPr>
              <a:t>19/22LE3400-ZA ,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89000" y="6553080"/>
            <a:ext cx="643104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※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ot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1. A few USB devices may not be compatible with the TV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If the USB device isn’t compatible, you use another USB device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2. It may not work on the UK channel with MHEG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(BBC, … 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If it doesn’t work on the channel with MHEG, you take off the antenna signa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or change to ATV channel, and retry the download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직사각형 5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6"/>
          <p:cNvSpPr/>
          <p:nvPr/>
        </p:nvSpPr>
        <p:spPr>
          <a:xfrm>
            <a:off x="57240" y="2084400"/>
            <a:ext cx="13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. File cop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88920" y="2859120"/>
            <a:ext cx="66690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Copy the download file to th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“LG_DTV” folder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of the USB devic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※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The TV system searches only the “LG_DTV” folder to find the download file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※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If there are many other files in the folder, it takes a long time to find the download fil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Picture 36" descr="18-1"/>
          <p:cNvPicPr/>
          <p:nvPr/>
        </p:nvPicPr>
        <p:blipFill>
          <a:blip r:embed="rId1"/>
          <a:stretch/>
        </p:blipFill>
        <p:spPr>
          <a:xfrm>
            <a:off x="587520" y="4835520"/>
            <a:ext cx="5483160" cy="339408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5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-39600" y="1943280"/>
            <a:ext cx="290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3. USB Download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89080" y="3362400"/>
            <a:ext cx="5583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ser (Automatic)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General cas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- Current TV version is lower than USB upgrade fil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99880" y="5029200"/>
            <a:ext cx="55724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xpert (Engineering)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- For Engineering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- If there are only the same or lower version files in the USB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you can’t use the user mode. But, you can use the expert mod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5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-96480" y="1676520"/>
            <a:ext cx="56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. USB Download – </a:t>
            </a:r>
            <a:r>
              <a:rPr b="1" lang="en-US" sz="2000" spc="-1" strike="noStrike">
                <a:solidFill>
                  <a:srgbClr val="3333ff"/>
                </a:solidFill>
                <a:latin typeface="Trebuchet MS"/>
              </a:rPr>
              <a:t>User (Automatic) Mode(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89000" y="2451240"/>
            <a:ext cx="64310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nsert the USB device into th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SB port of the TV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f the TV finds th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ame model nam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w version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file, it will display this message and start the upgrade automaticall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4376880" y="2384280"/>
            <a:ext cx="2260440" cy="2146320"/>
          </a:xfrm>
          <a:prstGeom prst="rect">
            <a:avLst/>
          </a:prstGeom>
          <a:ln w="0">
            <a:noFill/>
          </a:ln>
        </p:spPr>
      </p:pic>
      <p:sp>
        <p:nvSpPr>
          <p:cNvPr id="74" name="Oval 9"/>
          <p:cNvSpPr/>
          <p:nvPr/>
        </p:nvSpPr>
        <p:spPr>
          <a:xfrm>
            <a:off x="4724280" y="2486160"/>
            <a:ext cx="349200" cy="72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3727440" y="2868120"/>
            <a:ext cx="9968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328920" y="32846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USB po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Picture 12" descr="2"/>
          <p:cNvPicPr/>
          <p:nvPr/>
        </p:nvPicPr>
        <p:blipFill>
          <a:blip r:embed="rId2"/>
          <a:stretch/>
        </p:blipFill>
        <p:spPr>
          <a:xfrm>
            <a:off x="1905120" y="5715000"/>
            <a:ext cx="2873160" cy="362412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9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-62640" y="1139760"/>
            <a:ext cx="536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. USB Download – </a:t>
            </a:r>
            <a:r>
              <a:rPr b="0" lang="en-US" sz="2000" spc="-1" strike="noStrike">
                <a:solidFill>
                  <a:srgbClr val="3333ff"/>
                </a:solidFill>
                <a:latin typeface="Trebuchet MS"/>
              </a:rPr>
              <a:t>User (Automatic) Mode(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2120" y="1919160"/>
            <a:ext cx="643104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unning USB Software Upd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Select [Start] button in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[Figure] Software Upda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 and press [OK] key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Then the USB Software Update starts as below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Picture 12" descr="4"/>
          <p:cNvPicPr/>
          <p:nvPr/>
        </p:nvPicPr>
        <p:blipFill>
          <a:blip r:embed="rId1"/>
          <a:stretch/>
        </p:blipFill>
        <p:spPr>
          <a:xfrm>
            <a:off x="538200" y="6431040"/>
            <a:ext cx="2351160" cy="2573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7"/>
          <p:cNvSpPr/>
          <p:nvPr/>
        </p:nvSpPr>
        <p:spPr>
          <a:xfrm>
            <a:off x="1484280" y="9107640"/>
            <a:ext cx="399960" cy="417240"/>
          </a:xfrm>
          <a:prstGeom prst="downArrow">
            <a:avLst>
              <a:gd name="adj1" fmla="val 50000"/>
              <a:gd name="adj2" fmla="val 2493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Picture 22" descr="9"/>
          <p:cNvPicPr/>
          <p:nvPr/>
        </p:nvPicPr>
        <p:blipFill>
          <a:blip r:embed="rId2"/>
          <a:stretch/>
        </p:blipFill>
        <p:spPr>
          <a:xfrm>
            <a:off x="438120" y="3941640"/>
            <a:ext cx="3389400" cy="480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4"/>
          <p:cNvSpPr/>
          <p:nvPr/>
        </p:nvSpPr>
        <p:spPr>
          <a:xfrm>
            <a:off x="3230640" y="7754760"/>
            <a:ext cx="298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During updating, all inputs of remote control and local key are not operated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169920" y="3386160"/>
            <a:ext cx="6230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When below message is displayed,</a:t>
            </a:r>
            <a:r>
              <a:rPr b="0" lang="en-US" sz="1700" spc="-1" strike="noStrike">
                <a:solidFill>
                  <a:srgbClr val="ff0000"/>
                </a:solidFill>
                <a:latin typeface="굴림"/>
              </a:rPr>
              <a:t> you must NOT remove the USB memory stick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3230640" y="6546960"/>
            <a:ext cx="341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Copying the update file from the USB memory stick to the TV system memory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0" descr="10"/>
          <p:cNvPicPr/>
          <p:nvPr/>
        </p:nvPicPr>
        <p:blipFill>
          <a:blip r:embed="rId3"/>
          <a:stretch/>
        </p:blipFill>
        <p:spPr>
          <a:xfrm>
            <a:off x="442800" y="5264280"/>
            <a:ext cx="1346400" cy="396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2"/>
          <p:cNvSpPr/>
          <p:nvPr/>
        </p:nvSpPr>
        <p:spPr>
          <a:xfrm>
            <a:off x="176040" y="4681440"/>
            <a:ext cx="6669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When below message is displayed,</a:t>
            </a:r>
            <a:r>
              <a:rPr b="0" lang="en-US" sz="17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do not unplug the TV power cord during upgrading.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12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-96480" y="1444680"/>
            <a:ext cx="564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. USB Download – </a:t>
            </a:r>
            <a:r>
              <a:rPr b="1" lang="en-US" sz="2000" spc="-1" strike="noStrike">
                <a:solidFill>
                  <a:srgbClr val="3333ff"/>
                </a:solidFill>
                <a:latin typeface="Trebuchet MS"/>
              </a:rPr>
              <a:t>User (Automatic) Mode(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Picture 6" descr="6"/>
          <p:cNvPicPr/>
          <p:nvPr/>
        </p:nvPicPr>
        <p:blipFill>
          <a:blip r:embed="rId1"/>
          <a:stretch/>
        </p:blipFill>
        <p:spPr>
          <a:xfrm>
            <a:off x="584280" y="6539040"/>
            <a:ext cx="2343240" cy="298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3379680" y="2138400"/>
            <a:ext cx="2990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The TV displays this progressive message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to update new S/W to Flash memory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1530360" y="5778360"/>
            <a:ext cx="399960" cy="417600"/>
          </a:xfrm>
          <a:prstGeom prst="downArrow">
            <a:avLst>
              <a:gd name="adj1" fmla="val 50000"/>
              <a:gd name="adj2" fmla="val 2495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379680" y="6819840"/>
            <a:ext cx="30909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If the upgrade is completed, this message is displayed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The TV will restart automatically in 5 seconds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3379680" y="3075120"/>
            <a:ext cx="32036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굴림"/>
              </a:rPr>
              <a:t> </a:t>
            </a:r>
            <a:r>
              <a:rPr b="1" lang="en-US" sz="1500" spc="-1" strike="noStrike">
                <a:solidFill>
                  <a:srgbClr val="3333ff"/>
                </a:solidFill>
                <a:latin typeface="굴림"/>
              </a:rPr>
              <a:t>[User Mode]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3333ff"/>
                </a:solidFill>
                <a:latin typeface="굴림"/>
              </a:rPr>
              <a:t>You may take away the USB memory stick from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ff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3333ff"/>
                </a:solidFill>
                <a:latin typeface="굴림"/>
              </a:rPr>
              <a:t>the TV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[Expert Mode]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You can NOT take away the USB memory stick 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from the TV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500" spc="-1" strike="noStrike">
                <a:solidFill>
                  <a:srgbClr val="ff0000"/>
                </a:solidFill>
                <a:latin typeface="굴림"/>
              </a:rPr>
              <a:t>Below message will displayed in Expert mode.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20" descr="7"/>
          <p:cNvPicPr/>
          <p:nvPr/>
        </p:nvPicPr>
        <p:blipFill>
          <a:blip r:embed="rId2"/>
          <a:stretch/>
        </p:blipFill>
        <p:spPr>
          <a:xfrm>
            <a:off x="587520" y="2451240"/>
            <a:ext cx="2393640" cy="2968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9"/>
          <p:cNvPicPr/>
          <p:nvPr/>
        </p:nvPicPr>
        <p:blipFill>
          <a:blip r:embed="rId3"/>
          <a:stretch/>
        </p:blipFill>
        <p:spPr>
          <a:xfrm>
            <a:off x="3621240" y="5697360"/>
            <a:ext cx="2293920" cy="325440"/>
          </a:xfrm>
          <a:prstGeom prst="rect">
            <a:avLst/>
          </a:prstGeom>
          <a:ln w="0">
            <a:noFill/>
          </a:ln>
        </p:spPr>
      </p:pic>
      <p:sp>
        <p:nvSpPr>
          <p:cNvPr id="98" name="직사각형 10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2010-11-18 11"/>
          <p:cNvPicPr/>
          <p:nvPr/>
        </p:nvPicPr>
        <p:blipFill>
          <a:blip r:embed="rId1"/>
          <a:stretch/>
        </p:blipFill>
        <p:spPr>
          <a:xfrm>
            <a:off x="4076640" y="4662360"/>
            <a:ext cx="1944720" cy="341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2010-11-18 11"/>
          <p:cNvPicPr/>
          <p:nvPr/>
        </p:nvPicPr>
        <p:blipFill>
          <a:blip r:embed="rId2"/>
          <a:stretch/>
        </p:blipFill>
        <p:spPr>
          <a:xfrm>
            <a:off x="687240" y="4713120"/>
            <a:ext cx="2791080" cy="3414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-152640" y="979560"/>
            <a:ext cx="60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5. USB Download </a:t>
            </a:r>
            <a:r>
              <a:rPr b="1" lang="en-US" sz="2000" spc="-1" strike="noStrike">
                <a:solidFill>
                  <a:srgbClr val="3333ff"/>
                </a:solidFill>
                <a:latin typeface="Trebuchet MS"/>
              </a:rPr>
              <a:t>– Expert (Engineering) Mode(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9000" y="3497400"/>
            <a:ext cx="4087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Press “FAV” key 7 times on the OPTION menu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hen, you will see the message of the next pag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4227480" y="7365960"/>
            <a:ext cx="89712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4076640" y="8294760"/>
            <a:ext cx="1943280" cy="1057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ove the focus to the OP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ess “FAV” key 7 time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4376880" y="1511280"/>
            <a:ext cx="2260440" cy="2146320"/>
          </a:xfrm>
          <a:prstGeom prst="rect">
            <a:avLst/>
          </a:prstGeom>
          <a:ln w="0">
            <a:noFill/>
          </a:ln>
        </p:spPr>
      </p:pic>
      <p:sp>
        <p:nvSpPr>
          <p:cNvPr id="106" name="Oval 13"/>
          <p:cNvSpPr/>
          <p:nvPr/>
        </p:nvSpPr>
        <p:spPr>
          <a:xfrm>
            <a:off x="4724280" y="1612800"/>
            <a:ext cx="349200" cy="72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3727440" y="1995480"/>
            <a:ext cx="99684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328920" y="240984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rebuchet MS"/>
              </a:rPr>
              <a:t>USB po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1720" y="1577880"/>
            <a:ext cx="38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Insert the USB device into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USB port of the TV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738360" y="8561520"/>
            <a:ext cx="2641320" cy="52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ess SETUP button in Home dash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1335240" y="7207200"/>
            <a:ext cx="649080" cy="1354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직사각형 15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-104400" y="1874880"/>
            <a:ext cx="609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5. USB Download – </a:t>
            </a:r>
            <a:r>
              <a:rPr b="1" lang="en-US" sz="2000" spc="-1" strike="noStrike">
                <a:solidFill>
                  <a:srgbClr val="3333ff"/>
                </a:solidFill>
                <a:latin typeface="Trebuchet MS"/>
              </a:rPr>
              <a:t>Expert (Engineering) Mode(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89000" y="2649600"/>
            <a:ext cx="643104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elect the download file that you want to updat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When you select the file,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the TV displays the same message as User Mode(1)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※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  <a:ea typeface="굴림"/>
              </a:rPr>
              <a:t>The next process is the same as User Mode (2), (3)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7004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=&gt; Refer to the page 6~7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3578400" y="7864560"/>
            <a:ext cx="29415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[Forced Update Option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Pressing red color key will update External MI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regardless of vers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Picture 47" descr="GP3_Expert"/>
          <p:cNvPicPr/>
          <p:nvPr/>
        </p:nvPicPr>
        <p:blipFill>
          <a:blip r:embed="rId1"/>
          <a:stretch/>
        </p:blipFill>
        <p:spPr>
          <a:xfrm>
            <a:off x="1066680" y="5181480"/>
            <a:ext cx="2008440" cy="3691080"/>
          </a:xfrm>
          <a:prstGeom prst="rect">
            <a:avLst/>
          </a:prstGeom>
          <a:ln w="0">
            <a:noFill/>
          </a:ln>
        </p:spPr>
      </p:pic>
      <p:sp>
        <p:nvSpPr>
          <p:cNvPr id="117" name="직사각형 6"/>
          <p:cNvSpPr/>
          <p:nvPr/>
        </p:nvSpPr>
        <p:spPr>
          <a:xfrm>
            <a:off x="228600" y="228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체"/>
              </a:rPr>
              <a:t>Appendix A. S/W Download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9:12:23Z</dcterms:created>
  <dc:creator>ITGROUP</dc:creator>
  <dc:description/>
  <dc:language>en-US</dc:language>
  <cp:lastModifiedBy>HE User</cp:lastModifiedBy>
  <dcterms:modified xsi:type="dcterms:W3CDTF">2013-04-18T11:37:57Z</dcterms:modified>
  <cp:revision>179</cp:revision>
  <dc:subject/>
  <dc:title>Slide 1</dc:title>
</cp:coreProperties>
</file>